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6D99-1D54-4CE8-91E3-135A049B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71A7-1A94-4F98-94A1-D982E698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234-B6AA-4ACD-BCC7-80A641D5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366E-AB35-425D-ADF3-1F653894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22A-2499-438E-BFE9-C2E41A94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5D7-4E46-4D37-84BD-6C95127C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310-2813-4D80-93DA-FD2825FD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35C-3C79-4AC8-B0CE-AC9DCF52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099-D97D-48B4-B36E-424905F5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0026-9A71-4CFB-978A-91F78B95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A2A5-3DA4-4183-B147-6C69B763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278-EE48-4D4C-93F9-BE16EF0D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0E75-35BD-4681-A07D-962391267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824040"/>
            <a:ext cx="82090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824040"/>
            <a:ext cx="82090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5:23:16Z</dcterms:created>
  <dc:creator>Patrick J. Mooney</dc:creator>
  <dc:description/>
  <dc:language>en-US</dc:language>
  <cp:lastModifiedBy>Patrick J. Mooney</cp:lastModifiedBy>
  <dcterms:modified xsi:type="dcterms:W3CDTF">2011-02-01T15:24:54Z</dcterms:modified>
  <cp:revision>1</cp:revision>
  <dc:subject/>
  <dc:title>Slide 1</dc:title>
</cp:coreProperties>
</file>